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869-C22C-4ABA-97E5-AC04637A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DAF-42B7-474F-AC13-12E13E3F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CDE-808F-4077-B054-6198F96D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BB2-EE84-438F-B08E-352E5F95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DE86-A197-4218-A01A-BC7ACA05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7ADD-4756-478E-9C86-329CE23C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8E8C-18F5-468F-A5D6-A6584FE6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172F-7105-445A-84B4-5C85ED5F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3396-FFA3-4A29-B645-1D282BD7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7FC1-2850-406E-AD1C-2E43AECE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BAD0-B413-48C5-99BC-C7477AD0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D04-CA22-4B3C-BE2F-1E2A2D8B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B6C7-F2F7-4E9A-BC59-58E63668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EF66-D7DB-4D4F-865B-20AEC229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15F5-4E93-47F3-B91A-6EBB0D59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307D-60BE-4F15-BB44-F7EA0C33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8878-5803-49C7-A393-9B7C9AEC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AA4-5526-4E26-9FF8-75559FBF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CE9-78EC-481B-AAFE-2D5CB41A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379-E140-4294-BDC3-5DDBB9EE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28B-96A3-49CA-A286-921D173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AE0-E630-4D10-8DE6-FE96DDA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5A7-0B2D-4FF6-80F1-EB01847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51F-9DE4-46E9-819B-47A79706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52D4-3784-4C17-9534-EA50D3644F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2230-F5C5-4226-B704-F41201CE66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UD VOLEIBOL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LO EDUCACIÓN DEPOR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troducción voleib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esentación Modelo Educación Depor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laboración de equipos y selección de capita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VOLEIBOL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ncha dividi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onen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bjetivo del jueg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Número de contactos con el bal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untua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odalida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etici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Europei di pallavolo 2005 - Italia-Russia.jpg"/>
          <p:cNvPicPr/>
          <p:nvPr/>
        </p:nvPicPr>
        <p:blipFill>
          <a:blip r:embed="rId8"/>
          <a:stretch/>
        </p:blipFill>
        <p:spPr>
          <a:xfrm>
            <a:off x="6443640" y="1700280"/>
            <a:ext cx="216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VOLEIBOL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mpo de jueg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éc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ác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492360" y="1773360"/>
            <a:ext cx="2648160" cy="414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326280" y="1773360"/>
            <a:ext cx="2624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5ebe4"/>
                </a:solidFill>
                <a:latin typeface="Arial"/>
              </a:rPr>
              <a:t>MODELO EDUCACIÓN DEPORTIVA</a:t>
            </a:r>
            <a:endParaRPr b="0" lang="en-US" sz="40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xperiencia deportiva auténtica… ¿qué se hace en los deport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articipan equipos (rol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ntren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ompiten (pretemporada, temporada oficia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Otros eventos y actividades (records y estadísticas, diplomas, fiesta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5ebe4"/>
                </a:solidFill>
                <a:latin typeface="Arial"/>
              </a:rPr>
              <a:t>MODELO EDUCACIÓN DEPORTIVA</a:t>
            </a:r>
            <a:endParaRPr b="0" lang="en-US" sz="40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LES: Jugadores y capit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RAFT: p.e. Baloncesto (loterí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58920" y="3141720"/>
          <a:ext cx="5779800" cy="2636280"/>
        </p:xfrm>
        <a:graphic>
          <a:graphicData uri="http://schemas.openxmlformats.org/drawingml/2006/table">
            <a:tbl>
              <a:tblPr/>
              <a:tblGrid>
                <a:gridCol w="1154520"/>
                <a:gridCol w="1156680"/>
                <a:gridCol w="1155960"/>
                <a:gridCol w="1156680"/>
                <a:gridCol w="11559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dro 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é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ejandro 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ejandro 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onio 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ri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ctav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 pi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u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t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o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 cor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5ebe4"/>
                </a:solidFill>
                <a:latin typeface="Arial"/>
              </a:rPr>
              <a:t>MODELO EDUCACIÓN DEPORTIVA</a:t>
            </a:r>
            <a:endParaRPr b="0" lang="en-US" sz="40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LES: Jugadores y capit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RAFT: p.e. Baloncesto (loterí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258920" y="3068640"/>
            <a:ext cx="64436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9:04:12Z</dcterms:created>
  <dc:creator>Ricardo</dc:creator>
  <dc:description/>
  <dc:language>en-US</dc:language>
  <cp:lastModifiedBy>Ricardo</cp:lastModifiedBy>
  <dcterms:modified xsi:type="dcterms:W3CDTF">2013-01-16T07:03:01Z</dcterms:modified>
  <cp:revision>3</cp:revision>
  <dc:subject/>
  <dc:title>UD VOLEIBOL</dc:title>
</cp:coreProperties>
</file>